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511-9241-43CC-BD4E-9FE9E798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E6B-5DD5-4B80-BE09-781A3519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DB6-3709-48C1-9454-B4FDB38A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A6C-2E7C-4B9F-8301-7CE243E4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9BB-A352-4C25-8AE4-53973453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1B1-29EB-4EE5-8BE6-D43097FB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AC1-478D-4320-9D93-B07B8D64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5D6-7360-4F3E-87DA-4FFB46BD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3D6-01DB-4771-B53A-7E111158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10B-0BBD-46AE-9671-61F37CF0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76B-8454-4552-9510-ABEC9DC1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021-7108-412F-81E5-FB778261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061B-8992-4E54-B353-487306843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7 Tá krásna nád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blaží n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krásna nád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blaží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k nám sa vráti drah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uvidíme slávy jeho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ako sľúbil nám o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e, že už dozrel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amení znie jasný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učte všade piesne chváľ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Kristus, Kráľ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krásna nád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blaží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k nám sa vráti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krásna nád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ednocuje ná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koro príde drahý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eta več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hynúcich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jsť smieme s n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lávy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je ešte na to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e vydať jasný hlas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ľovské znie pozvan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pravené všetko j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krásna nád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ednocuje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k nám sa vrá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Krá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8:57:48Z</dcterms:modified>
  <cp:revision>8</cp:revision>
  <dc:subject/>
  <dc:title>Bez nadpisu</dc:title>
</cp:coreProperties>
</file>